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41F-5C5A-496E-A814-5A6F00C3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A1A-4F41-4E56-ABA6-AE5A27FA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5D1-09AD-4F9F-9030-5AB85233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345-2B15-4650-ABF6-BD7DD003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C03-FE87-4CC8-932E-B8FCF0E6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AF3-0B94-4D26-BBE7-DC3657BB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A34-7157-477B-84EB-51A461FD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ED6-5EDC-45FD-BF06-E8D228C4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812-A4EB-4042-B0CC-B054BA16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82A-A215-4D79-9DAF-CFF9B85E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27B5-BBD1-4F80-84AD-5D06A826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3AC-E4B0-4DC5-B68A-08888748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2EAB-C52F-4760-8DCC-CAD1EA6BF844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5ffff"/>
                </a:solidFill>
                <a:latin typeface="Tahoma"/>
              </a:rPr>
              <a:t>Inspektor ochrony radiologicznej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3809880" y="5099040"/>
            <a:ext cx="5334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dr inż.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Krzysztof Wojciech Fornalsk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krzysztof.fornalski@gmail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Ochrona radiologiczna pacjen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ochrona radiologiczna pacjenta – zespół czynności i ograniczeń zmierzających do zminimalizowania narażenia pacjenta na promieniowanie jonizujące, które nie będzie nadmiernie utrudniało lub uniemożliwiało uzyskania pożądanych i uzasadnionych informacji diagnostycznych lub efektów leczniczych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DD4A-702D-4A4C-9C2A-512C63F4F407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Ochrona radiologiczna pacjen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Właściwe badanie i leczenie przy użyciu promieniowania jonizującego wymaga 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optymalizacji ochrony radiologicznej pacjent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przed jego niepożądanym działanie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Optymalizacja ochrony radiologicznej pacjenta jest także realizowana przez redukcję do minimum badań niepotrzebnie powtarzanych i wadliwie wykonanyc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W radioterapii optymalizacja ochrony radiologicznej pacjenta wymaga możliwie maksymalnej ochrony przed promieniowaniem zdrowych narządów i tkanek przy realizacji napromienienia objętości tarczowej przepisaną dawką leczniczą, zaaplikowaną w takim reżimie czasowym, który zapewni jej maksymalną skuteczność (wyleczalność choroby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6172-4E85-4DD9-A6B8-23C8303E2195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Ochrona radiologiczna pacjen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Osoby wykonujące i nadzorujące wykonywanie badań i zabiegów leczniczych przy użyciu promieniowania jonizującego są obowiązane do podnoszenia swoich kwalifikacji z zakresu ochrony radiologicznej pacjenta poprzez ukończenie 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szkolenia w dziedzinie ochrony radiologicznej pacjenta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, zdanie egzaminu i uzyskanie certyfikatu potwierdzającego jego zdani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Szkolenie kończy się egzaminem przed Komisją Egzaminacyjną powołaną przez 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Głównego Inspektora Sanitarnego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spośród specjalistów z zakresu stosowania promieniowania jonizującego w medycynie i wydaniem certyfikatu potwierdzającego jego zdani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Certyfikat jest ważny przez okres 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5 lat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od dnia jego wydan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DECA-9412-4988-B129-7E4647D62B02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Egzamin</a:t>
            </a:r>
            <a:br>
              <a:rPr sz="4400"/>
            </a:b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-inspektor ochrony radiologicznej</a:t>
            </a:r>
            <a:br>
              <a:rPr sz="4400"/>
            </a:b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w medycyn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Egzamin na inspektora ochrony radiologicznej typu R lub 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Część pisemna (120 minut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Z części pisemnej egzaminu skład egzaminacyjny przyznaj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1) z testu – 1 punkt za każdą poprawną odpowiedź na pytanie typu zamkniętego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2) z zadań obliczeniowych lub problemowych – od 0 do 5 punktów za każde zadani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Do części ustnej egzaminu przystępuje egzaminowany, który uzyskał z części pisemnej egzaminu co najmniej 31 punktów, w tym co najmniej 21 punktów z testu i co najmniej 10 punktów z zadań obliczeniowych lub problemowyc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Z części ustnej egzaminu skład egzaminacyjny przyznaje od 0 do 5 punktów za odpowiedź na każde pytani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Egzamin uznaje się za zdany w przypadku uzyskania przez egzaminowanego co najmniej 10 punktów z części ustnej egzamin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Wniosek o nadanie uprawnienia inspektora ochrony radiologicznej składa się do Głównego Inspektora Sanitarnego w terminie nie dłuższym niż </a:t>
            </a:r>
            <a:r>
              <a:rPr b="0" lang="pl-PL" sz="2000" spc="-1" strike="noStrike">
                <a:solidFill>
                  <a:srgbClr val="ff0000"/>
                </a:solidFill>
                <a:latin typeface="Tahoma"/>
              </a:rPr>
              <a:t>6 miesięcy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od dnia zdania egzamin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699F-CA65-42E1-B5E7-350F6CB2702A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Przykładowe pytan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Układa je komisja egzaminacyj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Mogą być jednokrotnego wyboru (najczęściej) lub wielokrotn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Przedstawione pytania nie są pytaniami z nadchodzącego egzaminu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A237-A8A4-4344-8780-F12F5E87D788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Z arkusza egzaminacyjnego „S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Symbol zastępczy zawartości 5" descr=""/>
          <p:cNvPicPr/>
          <p:nvPr/>
        </p:nvPicPr>
        <p:blipFill>
          <a:blip r:embed="rId1"/>
          <a:stretch/>
        </p:blipFill>
        <p:spPr>
          <a:xfrm>
            <a:off x="244440" y="1639800"/>
            <a:ext cx="8594640" cy="4980240"/>
          </a:xfrm>
          <a:prstGeom prst="rect">
            <a:avLst/>
          </a:prstGeom>
          <a:ln w="0">
            <a:noFill/>
          </a:ln>
        </p:spPr>
      </p:pic>
      <p:sp>
        <p:nvSpPr>
          <p:cNvPr id="94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8447-6137-4BFC-AAA2-8AB37DCC9949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ymbol zastępczy stopki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ymbol zastępczy numeru slajdu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F37A-1F0C-4230-93F6-BFF81D29BB47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Tabela 3" descr=""/>
          <p:cNvPicPr/>
          <p:nvPr/>
        </p:nvPicPr>
        <p:blipFill>
          <a:blip r:embed="rId1"/>
          <a:stretch/>
        </p:blipFill>
        <p:spPr>
          <a:xfrm>
            <a:off x="171360" y="249120"/>
            <a:ext cx="8807400" cy="64692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ymbol zastępczy stopki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Symbol zastępczy numeru slajdu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B2AC-DF21-41C1-A62E-708B487AC499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Tabela 3" descr=""/>
          <p:cNvPicPr/>
          <p:nvPr/>
        </p:nvPicPr>
        <p:blipFill>
          <a:blip r:embed="rId1"/>
          <a:stretch/>
        </p:blipFill>
        <p:spPr>
          <a:xfrm>
            <a:off x="244440" y="249120"/>
            <a:ext cx="8661600" cy="6377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ymbol zastępczy stopki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Symbol zastępczy numeru slajdu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E5C6-DB70-4DF2-B4CE-24B379F4116D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Tabela 3" descr=""/>
          <p:cNvPicPr/>
          <p:nvPr/>
        </p:nvPicPr>
        <p:blipFill>
          <a:blip r:embed="rId1"/>
          <a:stretch/>
        </p:blipFill>
        <p:spPr>
          <a:xfrm>
            <a:off x="146160" y="109440"/>
            <a:ext cx="8808840" cy="6748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Organizacja ochrony radiologicznej w Polsce - przypomnien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Państwowa Agencja Atomisty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Państwowa Inspekcja Sanitar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rajowe Centrum Ochrony Radiologicznej w Ochronie Zdrow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omisja ds. procedur i audytów klinicznych wewnętrzny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Wojewódzcy i krajowi specjaliści do spraw radiologii i diagnostyki obrazowe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inspektor ochrony radiologicznej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w danej jednostce organizacyjne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2FBA-1151-498F-89F7-8D76F186499E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ymbol zastępczy stopki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Symbol zastępczy numeru slajdu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01FA-5129-4D1D-AFDC-5813DE9AFCF0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Tabela 3" descr=""/>
          <p:cNvPicPr/>
          <p:nvPr/>
        </p:nvPicPr>
        <p:blipFill>
          <a:blip r:embed="rId1"/>
          <a:stretch/>
        </p:blipFill>
        <p:spPr>
          <a:xfrm>
            <a:off x="171360" y="201600"/>
            <a:ext cx="8734680" cy="64119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ahoma"/>
              </a:rPr>
              <a:t>3 pytania problemow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oszę opisać procedurę uzyskania zezwolenia na otwarcie pracowni rtg ogólnodiagnostycznej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oszę opisać różnice pomiędzy dawką równoważną a skuteczn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oszę wymienić lub opisać, co powinna zawierać dokumentacja systemu zarządzania jakością w pracowni rt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3647-254E-483D-99F0-B983BE0BEDDB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Z arkusza egzaminacyjnego „R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Symbol zastępczy zawartości 5" descr=""/>
          <p:cNvPicPr/>
          <p:nvPr/>
        </p:nvPicPr>
        <p:blipFill>
          <a:blip r:embed="rId1"/>
          <a:stretch/>
        </p:blipFill>
        <p:spPr>
          <a:xfrm>
            <a:off x="603360" y="1689120"/>
            <a:ext cx="7802280" cy="4614840"/>
          </a:xfrm>
          <a:prstGeom prst="rect">
            <a:avLst/>
          </a:prstGeom>
          <a:ln w="0">
            <a:noFill/>
          </a:ln>
        </p:spPr>
      </p:pic>
      <p:sp>
        <p:nvSpPr>
          <p:cNvPr id="114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5C51-893E-43BC-906E-D806C5CBA314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647720" y="2544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ymbol zastępczy stopki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ymbol zastępczy numeru slajdu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4729-DFB7-4495-8CD6-A76B22732845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Tabela 3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8236080" cy="6534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ymbol zastępczy stopki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Symbol zastępczy numeru slajdu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BED2-56E7-476E-B2C2-37CC19154450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Tabela 3" descr=""/>
          <p:cNvPicPr/>
          <p:nvPr/>
        </p:nvPicPr>
        <p:blipFill>
          <a:blip r:embed="rId1"/>
          <a:stretch/>
        </p:blipFill>
        <p:spPr>
          <a:xfrm>
            <a:off x="384120" y="285840"/>
            <a:ext cx="8163000" cy="6389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ymbol zastępczy stopki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Symbol zastępczy numeru slajdu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2FE0-C5A3-4806-9539-C1A576A6DE75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Tabela 3" descr=""/>
          <p:cNvPicPr/>
          <p:nvPr/>
        </p:nvPicPr>
        <p:blipFill>
          <a:blip r:embed="rId1"/>
          <a:stretch/>
        </p:blipFill>
        <p:spPr>
          <a:xfrm>
            <a:off x="384120" y="176040"/>
            <a:ext cx="8236080" cy="64692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ymbol zastępczy stopki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Symbol zastępczy numeru slajdu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A96A-F264-4062-8D98-BFD8F42E2765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Tabela 3" descr=""/>
          <p:cNvPicPr/>
          <p:nvPr/>
        </p:nvPicPr>
        <p:blipFill>
          <a:blip r:embed="rId1"/>
          <a:stretch/>
        </p:blipFill>
        <p:spPr>
          <a:xfrm>
            <a:off x="384120" y="176040"/>
            <a:ext cx="8236080" cy="6608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ahoma"/>
              </a:rPr>
              <a:t>3 pytania problemow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Wymień minimum 5 obowiązków 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Wymień minimum 5 dokumentów, jakie powinny znajdować się w pracowni RTG w oryginale lub w uwierzytelnionych odpisa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Wymień co powinien zawierać program bezpieczeństwa jądrowego i ochrony radiologicznej w pracowni RT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147F-3B30-445E-ABA0-35690CBFDE30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ahoma"/>
              </a:rPr>
              <a:t>Inne przykładowe pytan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Wymień jakie elementy weźmiesz, jako inspektor ochrony radiologicznej, pod uwagę, przy przyjmowaniu osoby do pracy na stanowisko technika elektroradiologii (kategoria „B” narażenia) – jakie warunki winien spełnić kandyda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kwalifikacje - dyplom technika elektroradiolog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orzeczenie lekarskie stwierdzające brak przeciwwskazań do zatrudnienia na stanowisku technika elektroradiologii,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certyfikat potwierdzający zdanie egzaminu z zakresu ochrony radiologicznej pacjent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szkolenie wstępne w zakresie ochrony radiologicznej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dozymetria indywidualna lub środowiskowa, ew. pierścionkow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F226-5934-4269-BF08-D8CCA305B762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ahoma"/>
              </a:rPr>
              <a:t>Inne przykładowe pytan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Wymień czynniki, od których zależą biologiczne skutki oddziaływania promieniowania jonizujące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dawka: mniejsza / większ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czas trwania ekspozycji: dłuższy /krótsz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dawka jednorazowa /dawka frakcjonowa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rozmiar napromieniowanego obszaru: mniejszy /większ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rodzaj napromieniowanej tkanki: (większa wartość czynnika wagowego dla tych tkanek - gorzej), wątroba, tarczyca (mniejsza wartość czynnika wagowego - lepiej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wiek osoby napromieniowanej: osoba młoda /starsz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płeć osoby napromieniowanej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065B-AA06-4F5D-97C9-4F7661741DA2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Z Ustawy Prawo atomow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Art. 7. 1.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Tahoma"/>
              </a:rPr>
              <a:t>Za przestrzeganie wymagań bezpieczeństwa jądrowego i ochrony radiologicznej odpowiada </a:t>
            </a:r>
            <a:r>
              <a:rPr b="0" lang="pl-PL" sz="1600" spc="-1" strike="noStrike" u="sng">
                <a:solidFill>
                  <a:srgbClr val="ff0000"/>
                </a:solidFill>
                <a:uFillTx/>
                <a:latin typeface="Tahoma"/>
              </a:rPr>
              <a:t>kierownik jednostki organizacyjnej 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wykonującej działalność związaną z narażeni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pl-PL" sz="1600" spc="-1" strike="noStrike">
                <a:solidFill>
                  <a:srgbClr val="ff0000"/>
                </a:solidFill>
                <a:latin typeface="Tahoma"/>
              </a:rPr>
              <a:t>Wewnętrzny nadzór 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nad przestrzeganiem wymagań ochrony radiologicznej w jednostce organizacyjnej wykonującej działalność wymagającą zezwolenia sprawuje osoba, która posiada uprawnienia </a:t>
            </a:r>
            <a:r>
              <a:rPr b="0" lang="pl-PL" sz="1600" spc="-1" strike="noStrike">
                <a:solidFill>
                  <a:srgbClr val="ff0000"/>
                </a:solidFill>
                <a:latin typeface="Tahoma"/>
              </a:rPr>
              <a:t>inspektora ochrony radiologicznej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4. Wymaganie, o którym mowa w ust. 3, nie dotyczy jednostki organizacyjnej wykonującej działalność z aparatami rentgenowskimi do celów weterynaryjnych, pracującymi w systemie zdjęciowym, oraz jednostki organizacyjnej wykonującej działalność z urządzeniami rentgenowskimi przeznaczonymi do kontroli osób, przesyłek i bagażu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ffffff"/>
                </a:solidFill>
                <a:uFillTx/>
                <a:latin typeface="Tahoma"/>
              </a:rPr>
              <a:t>5. Wewnętrzny nadzór nad przestrzeganiem wymagań ochrony radiologicznej w pracowniach stosujących aparaty rentgenowskie do celów diagnostyki medycznej, radiologii zabiegowej, radioterapii powierzchniowej i radioterapii schorzeń nienowotworowych sprawuje osoba, która posiada uprawnienia inspektora ochrony radiologicznej w tych pracowniach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8438-A99C-4657-83ED-075E95585C8B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ahoma"/>
              </a:rPr>
              <a:t>Inne przykładowe pytan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Zadanie: Moc dawki promieniowania rentgenowskiego na stanowisku osoby obsługującej aparat rtg wynosi 2 mSv/h. Osoba obsługująca  aparat wykonuje tygodniowo 100 ekspozycji. Maksymalny czas jednej ekspozycji wynosi 0,5 s.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Oceń warunki pracy w oparciu o obowiązujące przepisy. Zakwalifikuj pracownika do odpowiedniej kategorii narażen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100 ekspozycji /tydz. × 0,5 sek. na każdą ekspozycję = 50 sek./tydz. × 52 tygodnie /rok = 2600 sek./rok = 0,72 h/r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D=0,72 h/rok × 2 mSv/h = 1,4 mSv /r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1,44 mSv /rok. Dawka OK (nie została przekroczona dawka graniczna 20 mSv/rok dla osób zawodowo narażonych, nie została przekroczona dawka 6 mSv/rok dla kategorii „A”),  – pracownika należy zaliczyć do kategorii „B” narażenia na promieniowani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dla 50 tygodni /rok wynik = 1,38 mSv /r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6DAD-791A-4C78-8C95-8AE3536D35D3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ahoma"/>
              </a:rPr>
              <a:t>Inne przykładowe pytan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Zadanie: Wyniki kwartalnej kontroli narażenia lekarza stomatologa na promieniowanie jonizujące wynoszą 0,261 mGy (w każdym kwartale, każdy wynik kontroli narażenia jest taki sam).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Oceń warunki pracy w oparciu o obowiązujące przepisy. Zakwalifikuj pracownika do odpowiedniej kategorii narażen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0,87 mGy = 1 mSv –&gt; 0,261 mGy = 0,3 mS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0,3 mSv/kwartał × 4 kwartały /rok = 1,2 mSv/r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1,2 mSv /rok. Dawka OK (nie została przekroczona dawka graniczna 20 mSv/rok dla osób zawodowo narażonych, nie została przekroczona dawka 6 mSv/rok dla kategorii „A”),  – pracownika należy zaliczyć do kategorii „B” narażenia na promieniowani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BB0E-E321-4C27-A2D3-5DA6B13842C3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Tahoma"/>
              </a:rPr>
              <a:t>Rozporządzenie w sprawie nadawania uprawnień inspektora ochrony radiologicznej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Dwa typy inspektora ochrony radiologicznej do działalności związanej z wykorzystaniem aparatów RTG do celów medycznych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– diagnostyka medyczna, radiologia zabiegowa, radioterapia powierzchniowa i radioterapia schorzeń nienowotworowy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– stomatologia; R posiada uprawnienia 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* IOR-3 – medycyna nuklearna, nowotowory i radioizotop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 u="sng">
                <a:solidFill>
                  <a:srgbClr val="ffffff"/>
                </a:solidFill>
                <a:uFillTx/>
                <a:latin typeface="Tahoma"/>
              </a:rPr>
              <a:t>Uprawnienia R i S nadaje Główny Inspektor Sanitarn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Tahoma"/>
              </a:rPr>
              <a:t>Uprawnienia IOR-3 nadaje Prezes Państwowej Agencji Atomistyk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Tahoma"/>
              </a:rPr>
              <a:t>Szczegółowe wymagania dot. możliwości ubiegania się o uprawnienia są w Rozporządzeniu (patrz następny slajd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Tahoma"/>
              </a:rPr>
              <a:t>Uprawnienia ważne są 5 l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7D25-4B68-4EB2-AF3A-67E98B1DDDBC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Kto może się ubiegać o uprawnienia inspektor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Uprawnienia typu R lub S nadaje się osobie, która posiada staż pracy przy źródłach X co najmniej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Roczny, w przypadku osób posiadających wykształceni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ahoma"/>
              </a:rPr>
              <a:t>Wyższe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ahoma"/>
              </a:rPr>
              <a:t>Średnie (technik elektroradiologii)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Trzyletni – dla osób z wykształceniem średni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Staż pracy </a:t>
            </a:r>
            <a:r>
              <a:rPr b="0" lang="pl-PL" sz="1400" spc="-1" strike="noStrike" u="sng">
                <a:solidFill>
                  <a:srgbClr val="ffffff"/>
                </a:solidFill>
                <a:uFillTx/>
                <a:latin typeface="Tahoma"/>
              </a:rPr>
              <a:t>nie jest wymagany</a:t>
            </a: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, jeśli w programie studiów wyższych znalazły się zagadnienia z zakresu </a:t>
            </a:r>
            <a:r>
              <a:rPr b="0" lang="pl-PL" sz="1400" spc="-1" strike="noStrike" u="sng">
                <a:solidFill>
                  <a:srgbClr val="ffffff"/>
                </a:solidFill>
                <a:uFillTx/>
                <a:latin typeface="Tahoma"/>
              </a:rPr>
              <a:t>dozymetrii i ochrony radiologicznej</a:t>
            </a: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 (wraz z zajęciami praktycznymi w warunkach narażenia) w minimalnym wymiarze 30 godzin wykładów i 30 godzin ćwiczeń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Pozostałe wymagania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Osoba posiada pełną zdolność do czynności prawnych (pisemne oświadczeni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Dokumenty potwierdzające posiadane wykształceni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Orzeczenie lekarskie o braku przeciwwskazań do pracy w warunkach narażen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Ksero dowodu tożsamośc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Przejście kurs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Osoba może być zwolniona z kursu, gdy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Posiada ważne uprawnienia w dniu złożenia wniosku o dopuszczenie do egzamin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 ciągu ostatnich 5 lat ukończyły studia wyższe (analogiczne jak w punkcie 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EF5A-4119-467A-A947-376E90438FD2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ahoma"/>
              </a:rPr>
              <a:t>Obowiązki</a:t>
            </a: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 inspektora o.r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Wewnętrzny nadzór nad przestrzeganiem przez jednostkę ochrony zdrowia warunków ochrony radiologicznej związanych z prowadzoną działalnością (według instrukcji prac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Nadzór nad prowadzeniem dokumentacji dotyczącej ochrony radiologiczne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Nadzór nad działaniem sygnalizacji ostrzegawczej i prawidłowym oznakowaniem miejs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Nadzór nad wykonywaniem podstawowych i specjalistycznych testów wewnętrznej kontroli parametrów aparatu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Nadzór nad aparaturą dozymetryczn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Nadzór nad warunkami dopuszczenia pracowników do pracy oraz ich 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szkoleniami w dziedzinie ochrony radiologiczne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Dokonywanie 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wstępnej oceny narażenia pracowników 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(kontrola indywidualna lub w środowisku prac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Informowanie pracowników o otrzymanych dawkach, monitorowanie ich poziomu, wyjaśnianie wzrostu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Obowiązki inspektora – c.d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Pełna współpraca z 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kierownikiem jednostki organizacyjnej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, służbą BHP oraz Ppoż w zakresie ochrony radiologiczne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Występowanie z propozycjami zmian do kierownika celem ulepszenia ochrony radiologiczne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Nadzór nad postępowaniem wynikającym z 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zakładowego planu postępowania awaryjnego 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(na wypadek zdarzenia radiacyjneg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Nadzór nad dokumentacj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Ustalenie wyposażenia jednostki ochrony zdrowia w odpowiednie środki ochrony radiologicznej pacjentów i pracowników (np. osłony, aparatura dozymetryczn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Jeśli wyniki pomiarów na to wskazują, występowanie z wnioskiem do kierownika o zmianę warunków pra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Sprawdzanie kwalifikacji pracowników w zakresie ochrony radiologiczne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Występowanie z wnioskiem do kierownika o wprowadzenie zmian w instrukcji pra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DC76-DC90-4E10-BE7B-80A0100EB9E2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ahoma"/>
              </a:rPr>
              <a:t>Uprawnienia</a:t>
            </a: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 inspektora</a:t>
            </a:r>
            <a:br>
              <a:rPr sz="4400"/>
            </a:b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- z Prawa atomoweg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Do zakresu </a:t>
            </a:r>
            <a:r>
              <a:rPr b="0" lang="pl-PL" sz="1800" spc="-1" strike="noStrike">
                <a:solidFill>
                  <a:srgbClr val="ff0000"/>
                </a:solidFill>
                <a:latin typeface="Tahoma"/>
              </a:rPr>
              <a:t>uprawnień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inspektora ochrony radiologicznej oraz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Tahoma"/>
              </a:rPr>
              <a:t>inspektora ochrony radiologicznej w pracowniach stosujących aparaty rentgenowskie do celów diagnostyki medycznej, radiologii zabiegowej, radioterapii powierzchniowej i radioterapii schorzeń nienowotworowych 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należy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1) występowanie do kierownika jednostki organizacyjnej z wnioskiem o zmianę warunków pracy pracowników, w szczególności w sytuacji, gdy wyniki pomiarów dawek indywidualnych uzasadniają taki wniosek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2) wydawanie kierownikowi jednostki organizacyjnej opinii, w ramach badania i sprawdzania urządzeń ochronnych i przyrządów pomiarowych, w zakresie skuteczności stosowanych środków i technik ochrony przed promieniowaniem jonizującym oraz sprawności i właściwego użytkowania przyrządów pomiarowych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0" lang="pl-PL" sz="1400" spc="-1" strike="noStrike">
                <a:solidFill>
                  <a:srgbClr val="ff0000"/>
                </a:solidFill>
                <a:latin typeface="Tahoma"/>
              </a:rPr>
              <a:t>sprawdzanie kwalifikacji pracowników</a:t>
            </a: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 w zakresie bezpieczeństwa jądrowego i ochrony radiologicznej i występowanie z wynikającymi z tego wnioskami do kierownika jednostki organizacyjnej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4) występowanie do kierownika jednostki organizacyjnej z wnioskiem o wprowadzenie zmian w instrukcjach pracy, jeżeli wnioskowane zmiany nie zwiększają limitów użytkowych dawki określonych w zezwoleniu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Symbol zastępczy stopki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Krzysztof W. Fornalsk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11A9-4B0E-45D2-B2A1-A2282796E6C1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5ffff"/>
                </a:solidFill>
                <a:latin typeface="Tahoma"/>
              </a:rPr>
              <a:t>Ochrona radiologiczna pacjen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(z ustawy Prawo atomow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9:14:28Z</dcterms:created>
  <dc:creator>Krzysiek</dc:creator>
  <dc:description/>
  <dc:language>en-US</dc:language>
  <cp:lastModifiedBy>1</cp:lastModifiedBy>
  <dcterms:modified xsi:type="dcterms:W3CDTF">2022-03-26T22:13:42Z</dcterms:modified>
  <cp:revision>88</cp:revision>
  <dc:subject/>
  <dc:title>PowerPoint Presentation</dc:title>
</cp:coreProperties>
</file>